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395F0-08D7-48FE-82E7-D3F749827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B74ED-95CF-40F0-AD67-40041DA85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25E2D6-0219-4D20-9008-AC6E8DE22B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F8E9F5-3BDC-44C9-908B-F00892D973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4E03A1-D3D5-4E74-92DA-70824181E0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009DEF-3D36-4048-9E8C-2B67B9C0A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7CDEF-DC69-446B-ADA8-B55276D36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540D7-4C00-4EBE-B1B5-08FFB6A35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30723-AF4C-4EF4-989E-A339B62DC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CAE19F-15C6-4DCC-AEF4-EB73E84E7D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240A64-559A-4B36-8518-120B154D5B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2602D6-61D6-4A38-B796-274F71EC25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B25B9-CA29-4AD8-A8B0-4DDB4019F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18880A-A4B9-4836-8FF7-448C9C095E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31890A-1199-4A4F-8604-CB10F7DC68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ABF14F-0174-49B2-B8F9-32AD1C226E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28D1FF-745F-4A8C-A421-1AFF15C270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AC9C00-0DB8-4A00-ABFC-50918DCE82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E046D4-5230-414B-8C7E-77BADF0A88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1215FF-F9A3-4797-9EAD-37F56DBF1B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6FBF47-F77B-470C-8C72-4C8F5439BF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B19391-BAC1-4C9E-B1D1-4E2A6CC54B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D79EB2-1876-48B0-B3A8-9C56D24E30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C040D-E116-49A8-8286-12CDDF59A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A01A43-0C14-4B3B-8669-7DAFFD09C4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AD6BEF-E1AB-47B6-B4E9-D8549650EB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76C9B1-7656-4CC0-B2C0-A625504133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83EBFA-B4D0-45B9-AF61-3969D95FC9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1AAAAC-C094-4066-9BAF-5ED0D67315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748D19-21A5-4ADF-8EA8-DEAF4C5D7D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BC669F-269B-40B8-B1A1-B81290CE71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17651-29AC-46F9-AB30-38DFB7D1F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A7D2D5-5686-4C61-99A1-71CB521B90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FE96BA-F310-4506-95E8-180297CE67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524ED-8A11-403C-8D95-C87750A25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C3D09C-DD11-484A-9015-FC918C9EC1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C35F16-1C21-4DCA-8FB0-71B54B9C7C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020EC8-00A2-45F8-9F49-045F9D105F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3A44DE-508C-4016-B9FF-6DE5202F42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71A71D-3E17-402E-AFA8-CBC9D3E3EA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A2AD13-F459-4B72-91DC-1E46E99848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7DFA06-5AB3-4573-ABC3-6563315486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13085E-47A2-4591-8884-123342B074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BFB9DE-9B51-4DCA-AE72-54D7271827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67E077-8E05-4E38-B5D6-0A847B25EF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8A580-73F9-40D7-91EC-CEC1A8EBB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2B0D8A-2748-4C35-AD9A-0937727088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E5DDB6-CF57-43E5-8E6F-D23E9FF571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C97E20-B858-4DA8-8F4B-C5E87E17E4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9AF4B4-2D71-41A3-83FA-BEBEA25082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D9A1FC-07D4-4FFE-B1D9-1F9FE50EEB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A45979-7689-4918-B06E-1C90A54210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3F709A-4F13-498F-9530-5C39F32595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F82802-8EE1-492A-AD3D-6712EE7F36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39B8A5-04E0-474E-9243-0D4AD07B1B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230932-274A-4CE8-884B-D3627E5BE4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8EBC5-594B-450E-A679-C361F49CF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6B4836-0B0B-4A9C-A58F-9610DC1CBD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5C277A-A8B2-483D-8979-184C7F40B1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21A680-CD49-45B5-9E45-F0750DC595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03A2FF-C2EC-42DD-A1E1-7C4FFC1EA2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767E10-C6F8-4732-A107-A8A0903D02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27ED2C-B017-4014-B386-AE21283455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8814FC1-0044-41FC-8D3A-983BC68DCA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1254C8C-6550-4A9C-B8A3-D464FAC4E5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E5882A-7844-4636-8427-D7B86FAB98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A1A492-1CE6-44F1-9225-2A1160C9D9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05DE6-4FA5-49A0-9EC6-A89F86DDE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103E7D-B880-4C34-A515-D39EE8188F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44081B-7791-43B2-A411-06090712BB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565613-5D34-48C9-A17A-FCF414959E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112093-944A-4803-9B73-434B2F9A23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300985-79CE-4E82-A074-FD2CB52F09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14F4A5-511F-46CF-B113-CA26A4A1CF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672ECC-098B-46D4-9ABA-262BF3B7AF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AAAFE9-2348-4491-8A59-BD9090EF260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BB7D76-099F-4DDA-921F-C78C7B1B5E3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D28780B-AC9B-4D5E-8140-0FC02502E2F5}"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0314E-CDB9-4433-9DBD-9DB3FD09A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AB40779-C6E6-46BB-B244-639564DC7E6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F94B4EA-8C89-4F6A-86B7-54328A64222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FB488EC-3ED7-4B8A-9C46-6CBBE1B8E0A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BB363A0-B461-42A1-BA65-866EE021022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43D3C89-1A9D-49F8-87B5-CF684C12DE7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D695B4E-C597-460A-803B-FAB361299B3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B20DA4E-3247-48FC-A522-DD2760334F9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89A0337-051D-4707-B0C9-718300D73EC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288E59B-4467-4E02-951E-03863F303F2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2E891F9A-6EE8-48FC-B07E-B8918F5259D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6A6F9-E139-4A0A-B96C-924DD1C74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409DE8E-B320-41D8-9590-F98802077A7E}"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D40A8FF-4A53-4506-A09A-10240417F46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89DE96-04EB-4862-AE8B-788B09770F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BBE80B-8C48-4505-85F3-7E0ACC320CC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4A175E-8534-4ADD-A36B-BDCD20B357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EF22D9-A036-441D-BA52-A69C5380A9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F3F1530-7F80-408C-89EA-9ABFBBE71F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351F71-0B26-498C-B091-3E677DC2FB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BD0FFA-E15E-4D08-B6C1-F7764028A8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FDD160-8AB8-46C2-93DA-5EA00CC2E5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EDA9F-A6EF-4CD4-9475-FC0E90774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B2DF65-BCF0-40EA-9336-1CDADC3FD9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DA50E1C-737E-4A11-A555-D56641F032B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5CAE9D0-307A-4A4E-85B7-C1C25C1EE81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B5603-F681-4921-8757-88DA8BCF5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86E91-EDB2-48E8-A78D-A62E0E18A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991A6-03BF-4D94-9EB1-F95C3191D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44B0A-B260-4614-9132-1CD88EF3F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ACE02-DBA4-4A8F-8011-7487514F5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AFBD8-7FB5-4F12-9169-4404C2285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46666-AFDF-448D-9FA0-4F02E7E88C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E2FB3-EE53-46EB-8E9B-3098F90F8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3F749-068F-4626-82AD-C5A39F2EF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FF027-A09C-4839-B1EF-B674A49F3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CB8BA-D91E-4A4B-80D7-D8A193D12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0674A-CEAD-434B-8C94-615A47DF5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DEF90-A9DA-44D0-9D1E-16AA636D7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CDBFE-9B24-4096-8F97-DE49CA696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685FF-E846-45B0-B1AA-57118C1FC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BEE26-6D5E-4D69-B4EC-07ADA87E4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490D8A-7BE7-4580-B2F3-C8A1961D2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1433C-1D00-4048-84E6-6C9EF5B87E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0BE430-9FA6-40AA-9336-FB1607985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AB0F392-D8CD-4169-AF5A-F2C942226A5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08E7AD-53E6-4237-8285-8C98D054E5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CF448F-BAF1-487C-9A87-08E1F9A92C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B75C6-748A-434E-BE6C-D67629BD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6D94A7-7BB4-4AA8-99EB-F3EEE305CD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B4A472-FF04-49B1-B4CD-F0C6EAA834E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45ED7D-D9BF-4AEB-8341-ACA4137E2E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847980-6A29-496E-81F9-177EE50CE0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54049E-43F2-4C05-8050-8A07DC4C35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3EAE61-A535-4BC6-931E-4B8B08FB95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FC1549-2EB2-4FE7-AC1B-3EF17C9A396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64232A-CC31-4375-83AA-7D3CC6A3355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7CB95E-0464-4A2E-89E4-FBAC81A7EFA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446B894-4BB6-4A43-ABD4-963CC77297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EC928-6E3D-4D52-8252-BF50A5E50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0B4F51-00D8-4474-A2CA-E52E91A7A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592308-84CB-4F93-A46A-544A03CEE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18A103-54B6-4D2D-A67D-1D4E46A2E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39E51A-7B4D-411B-AA61-E9ECD2274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0CEE52-F2ED-4000-B722-74BCEDE97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7EB55B-CD51-4836-B81B-8D292C422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5AC541-C2BD-4FDF-A418-6BFB63B13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FAC444-D7D6-4FAB-BB97-5A0AF5C86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3861F6-781B-44D4-9C4F-0589DD963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C29F43-8D20-4039-AEBB-98ED4E065B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42D5-0F1F-4958-A51E-06116E1AD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ADB8200-485B-400E-912F-5C032FC4D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0CC9F-CB14-430D-BDDA-82B989CE21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B31528-27A5-4554-879D-17C4F81759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4E1A0-743E-421C-AA80-C96FDA637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DB288-20EA-4E22-B143-447E11364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1C91B8-210F-4699-AB28-3E4A8EA45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569728-A8A9-4912-BF7D-BBC485CDA7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DDB30-BFCB-4002-B38C-974A7F0DC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18335-94CA-45EC-A9CF-6D0E2EEDD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D05E6-9643-482F-926D-B10B4B127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F162-4818-4942-8ADC-458078C1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B2957C-BF85-4C8E-B63F-50A5B8654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CED5E2-42A3-4606-AFFB-BC7CB3A447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236AAA-CBB5-4DBC-A63C-F03B6C5539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3B6973-0828-426A-90AE-D8D959A2AD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C928C5-362D-480A-B8D7-889E051CD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57BE73-1B04-4C43-A9F6-4762F238B8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2177FA-1EB8-4146-AA6C-30560255E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F79584-8645-448E-92B8-63A2FA1AD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46B4DA-4EF5-4426-805F-95B2D377C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858C9-2A92-4466-8178-EBAFF4182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1988-F8E6-453A-8447-273B15E1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F1F51-8D40-4133-B4B0-282F59E4D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528B4-5041-4ABC-BAEA-11F8B5E9D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423406-E214-4D07-A8C1-A39D22B06A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867E05-4ED8-4C01-A95B-AC21177F5B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9EBDC8-0434-43C2-9DF2-D55A770366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AEFBBD-5AB5-447E-BDBB-ED9DCF5152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1498A0-4F31-4C75-BF76-A140749687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0E6588-0D8F-4952-BA9E-B99F57C54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98F00-189C-47A5-805E-E47D284014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B5BD8A-49A9-4BCF-AA8C-A9D4084218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71932-7947-4864-9872-5F06C0CC2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F838E-35DD-4A24-B739-804AAEBFD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76812-1F94-4978-A05A-408F83651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C7BA70-DE64-46B2-BA5D-02296A3D2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4CBE6-4934-4AD6-951D-FEE2E118A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CABA28-4B8F-4FF5-AEB7-634FE9409E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46C653-6807-4DEA-8838-CFE1D1C998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CDE488-0EFB-4D74-9400-94B15AD711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8ABAAE-8110-4CB6-93F7-4564981C49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2B41AF-3D84-42C7-9FD5-F10FB19343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B47237-84E1-42F2-A647-DB2E4FE3B9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E0B9-F8DF-4116-9423-E2523CB62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2" name=""/>
          <p:cNvGrpSpPr/>
          <p:nvPr/>
        </p:nvGrpSpPr>
        <p:grpSpPr>
          <a:xfrm>
            <a:off x="0" y="0"/>
            <a:ext cx="9144000" cy="6856560"/>
            <a:chOff x="0" y="0"/>
            <a:chExt cx="9144000" cy="6856560"/>
          </a:xfrm>
        </p:grpSpPr>
        <p:sp>
          <p:nvSpPr>
            <p:cNvPr id="45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8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9" name=""/>
            <p:cNvGrpSpPr/>
            <p:nvPr/>
          </p:nvGrpSpPr>
          <p:grpSpPr>
            <a:xfrm>
              <a:off x="0" y="2590920"/>
              <a:ext cx="9140760" cy="2949480"/>
              <a:chOff x="0" y="2590920"/>
              <a:chExt cx="9140760" cy="2949480"/>
            </a:xfrm>
          </p:grpSpPr>
          <p:sp>
            <p:nvSpPr>
              <p:cNvPr id="49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9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3B1F-F91B-4B5F-910B-CB1A588294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3240" y="4267080"/>
            <a:ext cx="9140760" cy="2590920"/>
            <a:chOff x="3240" y="4267080"/>
            <a:chExt cx="9140760" cy="2590920"/>
          </a:xfrm>
        </p:grpSpPr>
        <p:sp>
          <p:nvSpPr>
            <p:cNvPr id="5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5" name=""/>
            <p:cNvGrpSpPr/>
            <p:nvPr/>
          </p:nvGrpSpPr>
          <p:grpSpPr>
            <a:xfrm>
              <a:off x="5600880" y="5897520"/>
              <a:ext cx="1256760" cy="827280"/>
              <a:chOff x="5600880" y="5897520"/>
              <a:chExt cx="1256760" cy="827280"/>
            </a:xfrm>
          </p:grpSpPr>
          <p:sp>
            <p:nvSpPr>
              <p:cNvPr id="5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47" name=""/>
            <p:cNvGrpSpPr/>
            <p:nvPr/>
          </p:nvGrpSpPr>
          <p:grpSpPr>
            <a:xfrm>
              <a:off x="2819520" y="5764320"/>
              <a:ext cx="2581200" cy="1084320"/>
              <a:chOff x="2819520" y="5764320"/>
              <a:chExt cx="2581200" cy="1084320"/>
            </a:xfrm>
          </p:grpSpPr>
          <p:sp>
            <p:nvSpPr>
              <p:cNvPr id="5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6" name=""/>
            <p:cNvGrpSpPr/>
            <p:nvPr/>
          </p:nvGrpSpPr>
          <p:grpSpPr>
            <a:xfrm>
              <a:off x="6553080" y="5334120"/>
              <a:ext cx="2144880" cy="1303200"/>
              <a:chOff x="6553080" y="5334120"/>
              <a:chExt cx="2144880" cy="1303200"/>
            </a:xfrm>
          </p:grpSpPr>
          <p:sp>
            <p:nvSpPr>
              <p:cNvPr id="5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84" name=""/>
            <p:cNvGrpSpPr/>
            <p:nvPr/>
          </p:nvGrpSpPr>
          <p:grpSpPr>
            <a:xfrm>
              <a:off x="8381880" y="4800600"/>
              <a:ext cx="674640" cy="409680"/>
              <a:chOff x="8381880" y="4800600"/>
              <a:chExt cx="674640" cy="409680"/>
            </a:xfrm>
          </p:grpSpPr>
          <p:sp>
            <p:nvSpPr>
              <p:cNvPr id="5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 name=""/>
              <p:cNvGrpSpPr/>
              <p:nvPr/>
            </p:nvGrpSpPr>
            <p:grpSpPr>
              <a:xfrm>
                <a:off x="8542440" y="4897440"/>
                <a:ext cx="360360" cy="209520"/>
                <a:chOff x="8542440" y="4897440"/>
                <a:chExt cx="360360" cy="209520"/>
              </a:xfrm>
            </p:grpSpPr>
            <p:sp>
              <p:nvSpPr>
                <p:cNvPr id="5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5BEC-C43C-451E-94B2-55EFC285E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38" name=""/>
          <p:cNvGrpSpPr/>
          <p:nvPr/>
        </p:nvGrpSpPr>
        <p:grpSpPr>
          <a:xfrm>
            <a:off x="3240" y="4267080"/>
            <a:ext cx="9140760" cy="2590920"/>
            <a:chOff x="3240" y="4267080"/>
            <a:chExt cx="9140760" cy="2590920"/>
          </a:xfrm>
        </p:grpSpPr>
        <p:sp>
          <p:nvSpPr>
            <p:cNvPr id="63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0" name=""/>
            <p:cNvGrpSpPr/>
            <p:nvPr/>
          </p:nvGrpSpPr>
          <p:grpSpPr>
            <a:xfrm>
              <a:off x="5600880" y="5897520"/>
              <a:ext cx="1256760" cy="827280"/>
              <a:chOff x="5600880" y="5897520"/>
              <a:chExt cx="1256760" cy="827280"/>
            </a:xfrm>
          </p:grpSpPr>
          <p:sp>
            <p:nvSpPr>
              <p:cNvPr id="64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52" name=""/>
            <p:cNvGrpSpPr/>
            <p:nvPr/>
          </p:nvGrpSpPr>
          <p:grpSpPr>
            <a:xfrm>
              <a:off x="2819520" y="5764320"/>
              <a:ext cx="2581200" cy="1084320"/>
              <a:chOff x="2819520" y="5764320"/>
              <a:chExt cx="2581200" cy="1084320"/>
            </a:xfrm>
          </p:grpSpPr>
          <p:sp>
            <p:nvSpPr>
              <p:cNvPr id="65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1" name=""/>
            <p:cNvGrpSpPr/>
            <p:nvPr/>
          </p:nvGrpSpPr>
          <p:grpSpPr>
            <a:xfrm>
              <a:off x="6553080" y="5334120"/>
              <a:ext cx="2144880" cy="1303200"/>
              <a:chOff x="6553080" y="5334120"/>
              <a:chExt cx="2144880" cy="1303200"/>
            </a:xfrm>
          </p:grpSpPr>
          <p:sp>
            <p:nvSpPr>
              <p:cNvPr id="67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8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89" name=""/>
            <p:cNvGrpSpPr/>
            <p:nvPr/>
          </p:nvGrpSpPr>
          <p:grpSpPr>
            <a:xfrm>
              <a:off x="8381880" y="4800600"/>
              <a:ext cx="674640" cy="409680"/>
              <a:chOff x="8381880" y="4800600"/>
              <a:chExt cx="674640" cy="409680"/>
            </a:xfrm>
          </p:grpSpPr>
          <p:sp>
            <p:nvSpPr>
              <p:cNvPr id="69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7" name=""/>
              <p:cNvGrpSpPr/>
              <p:nvPr/>
            </p:nvGrpSpPr>
            <p:grpSpPr>
              <a:xfrm>
                <a:off x="8542440" y="4897440"/>
                <a:ext cx="360360" cy="209520"/>
                <a:chOff x="8542440" y="4897440"/>
                <a:chExt cx="360360" cy="209520"/>
              </a:xfrm>
            </p:grpSpPr>
            <p:sp>
              <p:nvSpPr>
                <p:cNvPr id="69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03"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5"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29D1-2279-4051-B4A0-DD4DAD642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42" name=""/>
          <p:cNvGrpSpPr/>
          <p:nvPr/>
        </p:nvGrpSpPr>
        <p:grpSpPr>
          <a:xfrm>
            <a:off x="1440" y="0"/>
            <a:ext cx="9149040" cy="6851520"/>
            <a:chOff x="1440" y="0"/>
            <a:chExt cx="9149040" cy="6851520"/>
          </a:xfrm>
        </p:grpSpPr>
        <p:sp>
          <p:nvSpPr>
            <p:cNvPr id="74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6" name=""/>
            <p:cNvGrpSpPr/>
            <p:nvPr/>
          </p:nvGrpSpPr>
          <p:grpSpPr>
            <a:xfrm>
              <a:off x="457200" y="0"/>
              <a:ext cx="8093160" cy="6851520"/>
              <a:chOff x="457200" y="0"/>
              <a:chExt cx="8093160" cy="6851520"/>
            </a:xfrm>
          </p:grpSpPr>
          <p:sp>
            <p:nvSpPr>
              <p:cNvPr id="74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1" name=""/>
            <p:cNvGrpSpPr/>
            <p:nvPr/>
          </p:nvGrpSpPr>
          <p:grpSpPr>
            <a:xfrm>
              <a:off x="1440" y="622440"/>
              <a:ext cx="9141120" cy="2493720"/>
              <a:chOff x="1440" y="622440"/>
              <a:chExt cx="9141120" cy="2493720"/>
            </a:xfrm>
          </p:grpSpPr>
          <p:sp>
            <p:nvSpPr>
              <p:cNvPr id="77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0"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8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82"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7231-64DF-4749-A1F0-F96B5E3771D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20" name=""/>
          <p:cNvGrpSpPr/>
          <p:nvPr/>
        </p:nvGrpSpPr>
        <p:grpSpPr>
          <a:xfrm>
            <a:off x="0" y="0"/>
            <a:ext cx="9148320" cy="6851520"/>
            <a:chOff x="0" y="0"/>
            <a:chExt cx="9148320" cy="6851520"/>
          </a:xfrm>
        </p:grpSpPr>
        <p:sp>
          <p:nvSpPr>
            <p:cNvPr id="821"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4" name=""/>
            <p:cNvGrpSpPr/>
            <p:nvPr/>
          </p:nvGrpSpPr>
          <p:grpSpPr>
            <a:xfrm>
              <a:off x="455400" y="0"/>
              <a:ext cx="8092440" cy="6851520"/>
              <a:chOff x="455400" y="0"/>
              <a:chExt cx="8092440" cy="6851520"/>
            </a:xfrm>
          </p:grpSpPr>
          <p:sp>
            <p:nvSpPr>
              <p:cNvPr id="825"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8"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9" name=""/>
            <p:cNvGrpSpPr/>
            <p:nvPr/>
          </p:nvGrpSpPr>
          <p:grpSpPr>
            <a:xfrm>
              <a:off x="0" y="622440"/>
              <a:ext cx="9140760" cy="2493720"/>
              <a:chOff x="0" y="622440"/>
              <a:chExt cx="9140760" cy="2493720"/>
            </a:xfrm>
          </p:grpSpPr>
          <p:sp>
            <p:nvSpPr>
              <p:cNvPr id="850"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5"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58"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5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60"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5A7B-7DE3-4D2D-94DD-C6CCE9BF3B7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9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99"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0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3910-E9D9-4A8F-B891-C7FB11B0EB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0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03" name=""/>
          <p:cNvGrpSpPr/>
          <p:nvPr/>
        </p:nvGrpSpPr>
        <p:grpSpPr>
          <a:xfrm>
            <a:off x="228600" y="457200"/>
            <a:ext cx="1246320" cy="1371600"/>
            <a:chOff x="228600" y="457200"/>
            <a:chExt cx="1246320" cy="1371600"/>
          </a:xfrm>
        </p:grpSpPr>
        <p:sp>
          <p:nvSpPr>
            <p:cNvPr id="90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17" name="PlaceHolder 5"/>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95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5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5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43C3-5AB5-41D3-9C3A-781AD6DC5B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9" name=""/>
          <p:cNvGrpSpPr/>
          <p:nvPr/>
        </p:nvGrpSpPr>
        <p:grpSpPr>
          <a:xfrm>
            <a:off x="228600" y="1447920"/>
            <a:ext cx="2286000" cy="2514600"/>
            <a:chOff x="228600" y="1447920"/>
            <a:chExt cx="2286000" cy="2514600"/>
          </a:xfrm>
        </p:grpSpPr>
        <p:sp>
          <p:nvSpPr>
            <p:cNvPr id="96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7321-3E09-4B9A-8B7F-F8E0A6349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EAA2-A3BE-41EA-9EE3-784106275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A148-913E-49A5-B917-5F6F9E639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D4D1-ED56-453F-8FB3-48C7008EDC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66" name=""/>
          <p:cNvGrpSpPr/>
          <p:nvPr/>
        </p:nvGrpSpPr>
        <p:grpSpPr>
          <a:xfrm>
            <a:off x="0" y="0"/>
            <a:ext cx="9140760" cy="6850080"/>
            <a:chOff x="0" y="0"/>
            <a:chExt cx="9140760" cy="6850080"/>
          </a:xfrm>
        </p:grpSpPr>
        <p:grpSp>
          <p:nvGrpSpPr>
            <p:cNvPr id="167" name=""/>
            <p:cNvGrpSpPr/>
            <p:nvPr/>
          </p:nvGrpSpPr>
          <p:grpSpPr>
            <a:xfrm>
              <a:off x="2743200" y="3540240"/>
              <a:ext cx="6392880" cy="3309840"/>
              <a:chOff x="2743200" y="3540240"/>
              <a:chExt cx="6392880" cy="3309840"/>
            </a:xfrm>
          </p:grpSpPr>
          <p:sp>
            <p:nvSpPr>
              <p:cNvPr id="168"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6"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4" name=""/>
          <p:cNvGrpSpPr/>
          <p:nvPr/>
        </p:nvGrpSpPr>
        <p:grpSpPr>
          <a:xfrm>
            <a:off x="0" y="0"/>
            <a:ext cx="9140760" cy="6850080"/>
            <a:chOff x="0" y="0"/>
            <a:chExt cx="9140760" cy="6850080"/>
          </a:xfrm>
        </p:grpSpPr>
        <p:grpSp>
          <p:nvGrpSpPr>
            <p:cNvPr id="215" name=""/>
            <p:cNvGrpSpPr/>
            <p:nvPr/>
          </p:nvGrpSpPr>
          <p:grpSpPr>
            <a:xfrm>
              <a:off x="2743200" y="3540240"/>
              <a:ext cx="6392880" cy="3309840"/>
              <a:chOff x="2743200" y="3540240"/>
              <a:chExt cx="6392880" cy="3309840"/>
            </a:xfrm>
          </p:grpSpPr>
          <p:sp>
            <p:nvSpPr>
              <p:cNvPr id="21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24" name="PlaceHolder 2"/>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3"/>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6" name="PlaceHolder 4"/>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5C57-5923-4CE2-923A-0649DDB39C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63" name=""/>
          <p:cNvGrpSpPr/>
          <p:nvPr/>
        </p:nvGrpSpPr>
        <p:grpSpPr>
          <a:xfrm>
            <a:off x="0" y="6480"/>
            <a:ext cx="9140760" cy="6851520"/>
            <a:chOff x="0" y="6480"/>
            <a:chExt cx="9140760" cy="6851520"/>
          </a:xfrm>
        </p:grpSpPr>
        <p:sp>
          <p:nvSpPr>
            <p:cNvPr id="26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0" y="6480"/>
              <a:ext cx="9140760" cy="6851520"/>
              <a:chOff x="0" y="6480"/>
              <a:chExt cx="9140760" cy="6851520"/>
            </a:xfrm>
          </p:grpSpPr>
          <p:sp>
            <p:nvSpPr>
              <p:cNvPr id="26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8"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9"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0"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A187-8E19-405D-99A5-44E5B191D49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17" name=""/>
          <p:cNvGrpSpPr/>
          <p:nvPr/>
        </p:nvGrpSpPr>
        <p:grpSpPr>
          <a:xfrm>
            <a:off x="0" y="6480"/>
            <a:ext cx="9140760" cy="6851520"/>
            <a:chOff x="0" y="6480"/>
            <a:chExt cx="9140760" cy="6851520"/>
          </a:xfrm>
        </p:grpSpPr>
        <p:grpSp>
          <p:nvGrpSpPr>
            <p:cNvPr id="318" name=""/>
            <p:cNvGrpSpPr/>
            <p:nvPr/>
          </p:nvGrpSpPr>
          <p:grpSpPr>
            <a:xfrm>
              <a:off x="0" y="1843200"/>
              <a:ext cx="9140760" cy="5014800"/>
              <a:chOff x="0" y="1843200"/>
              <a:chExt cx="9140760" cy="5014800"/>
            </a:xfrm>
          </p:grpSpPr>
          <p:sp>
            <p:nvSpPr>
              <p:cNvPr id="31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324" name=""/>
            <p:cNvGrpSpPr/>
            <p:nvPr/>
          </p:nvGrpSpPr>
          <p:grpSpPr>
            <a:xfrm>
              <a:off x="552600" y="6480"/>
              <a:ext cx="8588160" cy="6851520"/>
              <a:chOff x="552600" y="6480"/>
              <a:chExt cx="8588160" cy="6851520"/>
            </a:xfrm>
          </p:grpSpPr>
          <p:sp>
            <p:nvSpPr>
              <p:cNvPr id="3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3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32" name="PlaceHolder 2"/>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33" name="PlaceHolder 3"/>
          <p:cNvSpPr>
            <a:spLocks noGrp="1"/>
          </p:cNvSpPr>
          <p:nvPr>
            <p:ph type="ftr" idx="23"/>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34" name="PlaceHolder 4"/>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D956-B531-4B0F-BC5E-6EFB96E0FD0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71" name=""/>
          <p:cNvGrpSpPr/>
          <p:nvPr/>
        </p:nvGrpSpPr>
        <p:grpSpPr>
          <a:xfrm>
            <a:off x="0" y="0"/>
            <a:ext cx="9144000" cy="6856560"/>
            <a:chOff x="0" y="0"/>
            <a:chExt cx="9144000" cy="6856560"/>
          </a:xfrm>
        </p:grpSpPr>
        <p:sp>
          <p:nvSpPr>
            <p:cNvPr id="37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8" name=""/>
            <p:cNvGrpSpPr/>
            <p:nvPr/>
          </p:nvGrpSpPr>
          <p:grpSpPr>
            <a:xfrm>
              <a:off x="0" y="2590920"/>
              <a:ext cx="9140760" cy="2949480"/>
              <a:chOff x="0" y="2590920"/>
              <a:chExt cx="9140760" cy="2949480"/>
            </a:xfrm>
          </p:grpSpPr>
          <p:sp>
            <p:nvSpPr>
              <p:cNvPr id="40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3"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1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15"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A518-AA50-424A-A771-24069AEAD1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hyperlink" Target="http://www.pandia.com/goalgetter/" TargetMode="External"/><Relationship Id="rId2" Type="http://schemas.openxmlformats.org/officeDocument/2006/relationships/hyperlink" Target="http://www.lib.berkeley.edu/TeachingLib/Guides/Internet/FindInfo.html" TargetMode="External"/><Relationship Id="rId3" Type="http://schemas.openxmlformats.org/officeDocument/2006/relationships/hyperlink" Target="http://www.sc.edu/beaufort/library/pages/bones/bones.shtml" TargetMode="External"/><Relationship Id="rId4"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net Tutorial </a:t>
            </a:r>
            <a:endParaRPr b="0" lang="en-US" sz="4400" spc="-1" strike="noStrike">
              <a:solidFill>
                <a:srgbClr val="b7e7ff"/>
              </a:solidFill>
              <a:latin typeface="Arial"/>
            </a:endParaRPr>
          </a:p>
        </p:txBody>
      </p:sp>
      <p:sp>
        <p:nvSpPr>
          <p:cNvPr id="10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Kansas_De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tions</a:t>
            </a:r>
            <a:endParaRPr b="0" lang="en-US" sz="4400" spc="-1" strike="noStrike">
              <a:solidFill>
                <a:srgbClr val="ffffff"/>
              </a:solidFill>
              <a:latin typeface="Tahoma"/>
            </a:endParaRPr>
          </a:p>
        </p:txBody>
      </p:sp>
      <p:sp>
        <p:nvSpPr>
          <p:cNvPr id="10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WORDS--</a:t>
            </a:r>
            <a:r>
              <a:rPr b="0" lang="en-US" sz="2800" spc="-1" strike="noStrike">
                <a:solidFill>
                  <a:srgbClr val="ffffff"/>
                </a:solidFill>
                <a:latin typeface="Tahoma"/>
              </a:rPr>
              <a:t> A word searched for in a search comman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ta search--</a:t>
            </a:r>
            <a:r>
              <a:rPr b="0" lang="en-US" sz="2800" spc="-1" strike="noStrike">
                <a:solidFill>
                  <a:srgbClr val="ffffff"/>
                </a:solidFill>
                <a:latin typeface="Tahoma"/>
              </a:rPr>
              <a:t>a search engine that sends user requests to several other search engines and/or databases and returns the results from each one. Meta search enables users to enter search criteria once and access several search engines simultaneous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arch Engines</a:t>
            </a: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use search engines that you know how to us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xamples of easy to use search engin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oogle, Yahoo! Search, Msn Search, and As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 Careful </a:t>
            </a:r>
            <a:endParaRPr b="1" lang="en-US" sz="4400" spc="-1" strike="noStrike">
              <a:solidFill>
                <a:srgbClr val="eaeaea"/>
              </a:solidFill>
              <a:latin typeface="Tahoma"/>
            </a:endParaRPr>
          </a:p>
        </p:txBody>
      </p:sp>
      <p:sp>
        <p:nvSpPr>
          <p:cNvPr id="10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very careful on how you search for things because search engines although very helpful can be very stupid at tim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xample of this--If you ask them for a pan pizza they may not only give you pages on pizza and pan pizza, but also information about the god Pan, Pan flutes, frying pans, Peter Pan, Pan Arabian co-operation and mo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stead put what you are looking for in quotation mark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an Piz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e Careful </a:t>
            </a:r>
            <a:endParaRPr b="0" lang="en-US" sz="3900" spc="-1" strike="noStrike">
              <a:solidFill>
                <a:srgbClr val="ffffff"/>
              </a:solidFill>
              <a:latin typeface="Arial"/>
            </a:endParaRPr>
          </a:p>
        </p:txBody>
      </p:sp>
      <p:sp>
        <p:nvSpPr>
          <p:cNvPr id="10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earching for both a cat and a dog don’t just type cat and dog. Type Cat+Dog. Use as least words as you can when searching for things. This cuts down all the extra unneeded popup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arching a Famous Person</a:t>
            </a:r>
            <a:endParaRPr b="0" lang="en-US" sz="4400" spc="-1" strike="noStrike">
              <a:solidFill>
                <a:srgbClr val="ffffff"/>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 you were looking for information on some one famous you could be down "Thomas Alva Edison" but that would not give you pages with names like Thomas A. Edison or Thomas Edison. Instead put in this “Thomas Alva Edison" OR "Thomas A. Edison" OR "Thomas Edison". This will help you take care of this problem.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elling</a:t>
            </a:r>
            <a:endParaRPr b="0" lang="en-US" sz="4400" spc="-1" strike="noStrike">
              <a:solidFill>
                <a:srgbClr val="ccecff"/>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earch engines are very sensitive so make sure you always spell things right. And if something is supposed to be lower case make sure it is. And the same goes with it if it’s suppose to be upper c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a:t>
            </a:r>
            <a:endParaRPr b="0" lang="en-US" sz="4400" spc="-1" strike="noStrike">
              <a:solidFill>
                <a:srgbClr val="ccecff"/>
              </a:solidFill>
              <a:latin typeface="Arial"/>
            </a:endParaRPr>
          </a:p>
        </p:txBody>
      </p:sp>
      <p:sp>
        <p:nvSpPr>
          <p:cNvPr id="10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www.pandia.com/goalgetter/</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2"/>
              </a:rPr>
              <a:t>http://www.lib.berkeley.edu/TeachingLib/Guides/Internet/FindInfo.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3"/>
              </a:rPr>
              <a:t>http://www.sc.edu/beaufort/library/pages/bones/bones.s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Metasearch_engi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6:18:48Z</dcterms:created>
  <dc:creator>Armour User</dc:creator>
  <dc:description/>
  <dc:language>en-US</dc:language>
  <cp:lastModifiedBy>Armour User</cp:lastModifiedBy>
  <dcterms:modified xsi:type="dcterms:W3CDTF">2007-10-10T15:58:59Z</dcterms:modified>
  <cp:revision>5</cp:revision>
  <dc:subject/>
  <dc:title>Internet Tutorial </dc:title>
</cp:coreProperties>
</file>